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540-45B7-4651-AAE4-7B501213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4C8-3E53-4E4E-9E88-7443595A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254-5974-4D63-9D0D-13F34ECB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7CF-E6AB-4C4A-A60B-A091AF15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354-A5F6-460F-988B-6B6EE76F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872-B975-48F1-9CF7-0D82C291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3FE-00AF-47C3-B4CE-8AD3410A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4F3-81FB-4B6B-924F-C78CBB96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1D3-D60A-4278-9D12-B47AE85F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338-D365-43E4-A92E-983814DD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C21-A807-44F5-81CF-40ABA0AF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16D-2E19-4B2F-B4DA-DEF79BC5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8914-FA6F-4593-9F00-6F3FAAEB4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ew key rules to help you take better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My Documents\My Pictures\cuda_logo_med.TIF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ip #8- Stay Organ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685800" y="2133720"/>
          <a:ext cx="38098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38098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doesn’t matter what you write down if you don’t keep it organized so you can study it! Keep your notes all in one pl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1- Don’t Always Copy Word for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3"/>
          <p:cNvGraphicFramePr/>
          <p:nvPr/>
        </p:nvGraphicFramePr>
        <p:xfrm>
          <a:off x="228600" y="2971800"/>
          <a:ext cx="350532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350532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9000" y="19047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rite down important keywords and phrases, leaving out unimportant words. Make sure it makes sense and you got all the key ideas and examples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2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-Learn shorthand techniques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orthand is basically an easier way to write things down. For example, drawing a “+” symbol instead of writing “plus” or a “?” instead of “question.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5027760" y="1981080"/>
          <a:ext cx="3051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1981080"/>
                    <a:ext cx="3051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Shorthand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914400" y="1981080"/>
          <a:ext cx="27702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27702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943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/ (wi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/o (withou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/c (becau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tc. (and so 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: (reason fo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+ (pl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.g. or i.e. or ex (for exampl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3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-Ask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sk questions if there is something you do not understand. If you still don’t understand, draw a question mark by your notes so that you know to go back and clarify it l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5791320" y="1981080"/>
          <a:ext cx="312408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981080"/>
                    <a:ext cx="312408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4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-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cus on what is being said, don’t keep asking, “Is this important” or “Should I write this down.” It just distracts you. Write down all key ide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228600" y="1981080"/>
          <a:ext cx="3668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3668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5- Stop and Lis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f you are not following what is being said, stop writing and just listen until you understand-then write it down adding your own clarific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4648320" y="2712960"/>
          <a:ext cx="3809880" cy="26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712960"/>
                    <a:ext cx="380988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6-Learn Key Phra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3"/>
          <p:cNvGraphicFramePr/>
          <p:nvPr/>
        </p:nvGraphicFramePr>
        <p:xfrm>
          <a:off x="685800" y="2743200"/>
          <a:ext cx="3809880" cy="25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380988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This is important because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In summary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The most important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In conclusion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A key point is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...on the te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The significance of this is..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Tip #7- Be Aware of Key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aware of the words your teachers use to indicate that something is very importa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teacher writes it down, you should write it dow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4952880" y="2362320"/>
          <a:ext cx="381024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362320"/>
                    <a:ext cx="381024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21:57:16Z</dcterms:created>
  <dc:creator>Samantha Murrell</dc:creator>
  <dc:description/>
  <dc:language>en-US</dc:language>
  <cp:lastModifiedBy>shmurray</cp:lastModifiedBy>
  <dcterms:modified xsi:type="dcterms:W3CDTF">2011-06-13T20:00:34Z</dcterms:modified>
  <cp:revision>2</cp:revision>
  <dc:subject/>
  <dc:title>Note Taking</dc:title>
</cp:coreProperties>
</file>